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chomp.wav" ContentType="audio/x-wav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17A0-8DD5-4E5E-93DB-9C4CAB3FC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ground = red 79; green 98; blue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Cretaceous = when dinosaurs becam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B4CA-4D14-4CDC-B744-D3C7E0973E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B593-1526-4FAF-B974-E12C05A0A0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BAB-32A5-4F01-939E-EE373F03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DF3-0C15-441F-A378-052C6CE9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9B0C6-7AE5-48D6-AD8C-A6D4AC13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8B7A9-B557-49B3-A560-7EE23766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7C8B4-AB98-4629-8F4A-76A22DB6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7E6B4-0269-47A0-88D9-48DCDFCD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A9D06-5035-45DB-9AFB-5A58067F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68AF4-217F-45A4-A4F3-40711802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A5BF3-6534-4A62-AC0C-BC78D6D6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37451-D8B5-4F44-9487-CD1150F1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388CD-8C2C-4302-BEC8-196C5186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B7492-2B10-458F-B6A6-23D60E29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21F-40DE-438E-830A-93522417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48826-6E69-45D6-A650-F768675D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FD2C2-FB25-4327-8420-EAFED60D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3959F-4B1A-4FC1-973F-F500182C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80F14-1B30-4D85-8C1F-978DF188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78450-3E2C-4E87-92F4-ACAC0492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E216C-EAA9-495D-B3D5-CD040EEF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412A5-0F8D-47DC-8B2B-38185A39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0BD03-EAD4-476E-B166-9126B5BE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BDCAF-B8CB-46F9-8275-EBE0D156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F5573-CC57-40EF-B1DC-997FA9E9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CF2-1B2B-4232-B4AB-F89CC8E5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61F3E-7D66-42CC-AFE0-C7DF2510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89F79-5EC8-4B78-96DB-1644D17B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A6CC6-03D9-4D1D-A7D7-0D01580C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34221-EE5F-4ECB-B529-3F7BF966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AE2EC-87BB-4EBA-B6AE-353401F8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55181-CAFD-4923-A864-91964B41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24678-D9E3-497F-B753-1728240D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9A910-5566-4439-9A5A-A7B41A9B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DEDC0-F6CA-4BD7-90B1-AAF08659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0641A-6133-403C-AA7F-6EEB5670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FA6E8-9520-41A6-AB9A-74F6DEFF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1D317-0486-4C59-B4C3-0BD0EACD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963A2-3A73-4B9E-B57B-CABC8860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B8E35-570C-426F-A0DF-034CB685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73C62-31F9-4851-A2CD-560F53F1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27015-0226-4485-8F97-6B032913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08B66-C035-4073-BD91-BEEFAF12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021CB-90CE-4F22-BCEA-DFAF47E4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64C58-C78C-4FF4-83C6-86F139C4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D266A-84F3-403A-85D0-1B8672AB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B9B28-9702-4655-B090-41F6FA6F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0E68A-C3A0-4F84-B840-A75957BE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ACC82-F1B6-4DA6-B60C-E652BFBB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E3E98-F71D-47F9-8C1B-CB76BE40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8FD6D-2BB9-4F93-A06B-D5B5F874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479ED-2BEE-4EE0-B490-FCAC6815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B23AC-CFDF-4CFB-9D29-63C636AF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6BF4D-AE51-4492-B1F5-88D506D5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41AF5-B91B-45B5-A392-5827889C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E76FC-B7E9-45A1-8FE1-2EA0086A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A7D3E-C3DC-4C9A-A632-F139FBED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D7CEF-F429-461D-BDB5-516D8495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B755B-773A-45A4-A88A-D5EBB0FE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27C46-4A92-476E-A7B6-945F134D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BB754-857A-4261-9E25-F10AC45B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3A40C-4093-46EF-926A-0B206152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80B00-7442-4B50-96E5-1D09E5A3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A0FF6-2798-468C-A473-7B2E4250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D4647-3338-4A5A-82CB-7B7D95E4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ADB15-92BB-4355-A57B-2198F0D9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5C8C0-2BA6-4A26-A55B-D0FE5849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A5F9F-918C-4B8B-9C6D-CCB6B70B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D208D-6A8A-408F-BB1E-ADFC44E3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02714-475B-40BE-9BE7-DE7BCC42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0A632-A70C-428D-8FCD-7ACB4A41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F1B04-C3B1-4359-8D90-0803FE6D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27C57-0A05-4534-8B26-3A5F5C3D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2C47D-3F73-4838-B371-0A998021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38F24-F4AF-4F58-97A3-ED758811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3FD14-E76E-4BE7-AA22-68F20380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DBBDC-58B6-49DE-AD2D-26A8138D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36244-D650-4C28-9E61-9177F72D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856D7-1058-4C9B-8E84-2625D969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63C02-67C3-4A6E-A260-0443F10D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B58C1-6F97-44F6-88D7-5C806038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6ACF4-D7F6-4570-B091-8814A2B1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A9CE4-4585-4C47-AA31-F0D6BFB5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28187-F1B5-438F-BC6F-E599F637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B978F-8D38-4C6E-96D9-409E77FB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C6DDB-7558-40DD-860C-268637B2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43FD0-7EFB-4E04-9DB7-591742EE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CD0DC-57AE-460F-830F-B8F35D47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54237-BF5E-43E7-80CB-7BE6DEF6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2865A-ED25-4F94-B3CE-10681FF3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35519-F48F-44CB-B27F-E982164C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A58DF-F816-4DF3-A66B-A09E4CE1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83D44-048B-4AE6-B77A-0BC4C6A8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52047-D4DD-4F98-B3B6-7B3A675A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02BB9-22F1-48DE-B599-C785E3B7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4F622-A799-43E4-8BE6-1BC49B6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B0D55-C280-4E0C-97C7-23FAC0BC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201DD-B0A9-46FE-B7B0-08BCBD13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7F389-71A9-4CD4-9881-F536B906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E6E4E-75F6-4D3F-B6FF-8E3EC2AB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8BAF9-5A46-43EB-86E4-D03CFF8C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3BB4F-29EF-449E-90DC-D6113C7F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38C9A-B97B-4D2F-9925-CB92A160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7413C-68DB-44D3-BFEE-D1F14F98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EA505-6FBA-4E99-9CE9-63C2AD35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E6222-7CF1-4CAE-983D-C1AF21D2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4E5-7512-476B-ACF4-3FE46225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0733E-4C79-4D8B-8220-0DD01A2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4A577-3E2E-4199-8704-E2126DA4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CC42D-5B06-4FF5-8970-2015D527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F1E90-91A9-4EBC-82E2-9EB9835E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9B327-D7DF-4CBF-87F0-CCAE7336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E3D25-85BA-4803-8667-3D0C0573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F9558-B56C-4B90-AE23-C9024F76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9239D4-19A8-4080-BA23-1157FB8F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22AC6-2205-41F0-9995-9C9D87EF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0F876-29DB-43EB-ABF7-0626C4AB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DD022-E0B3-46DF-A30F-1808B638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80BD0-E352-4BEC-A852-27C23423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7DE0B-C9B8-4A85-ACFC-5795E2C8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AB5AF8-8BED-4E2C-8BA8-67244931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7F83E-3211-4C27-8F2C-AF62EC76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CA121-5E38-4ECF-A73F-39883BD7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A35F6E-4128-4179-91C2-8FEE0166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61585-9135-440E-876D-5D335EE0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7B5D6-91BD-4E48-A2F3-A7D93A24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F5DE8-020D-4F57-BD01-9811A54B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BD727-BA5F-4978-ABC6-41B90200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521CD-6B4C-48D6-AFB7-8C86E263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0F9D8B-3E32-4982-9E8A-D22D7134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1D593-E6A1-4507-A7C5-E72DE0D7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166C2C-EDCA-471C-ADA3-FC021266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30F4D-1643-44BF-AA84-C4EBD303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23E04-CB51-44EA-9110-9C8F705C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C4083-FF69-4248-869E-D51B5EA2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F5E75-59D4-44CB-970D-195E9FD0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77764-8E05-4CAD-980E-CE60B440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B9B70E-DC9E-4CA5-A99E-660DFBC1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A3C74F-FAA7-4FD7-B082-ADE2B0AF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12B1E-2976-465A-A716-A502F02F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E66708-5407-41BD-B228-BCCD094C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0A4A71-F5B3-4EAB-9532-7838071C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01FD24-D54F-44B7-BB78-32550257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02257-5E2A-4FEF-846F-F56D2686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A6DA5-7D8F-40B2-A0F2-F43CE9F7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D1490B-26CF-481D-9A8F-B24126E3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5F904-6F37-407D-A586-6568D817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FB949-FB15-4644-B353-9C8C5463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4D692-0FB1-4A42-B16C-5BA941DE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613CD1-9F01-4B83-90C5-11F03F98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AD918-AC57-4F47-828E-BFDF57EF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4405D-C7B5-4F1F-875D-726903DE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CD305-B7E5-4B2F-9543-E1B1E981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D68511-FD30-457C-A349-8457A194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3CBAD-8124-4163-8FA2-2EAFC52E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AF6034-9DE8-484C-A067-AD555E69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B20820-52AE-4F11-B5A3-BE42ADCE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23E7C9-A315-4526-87E5-273577E4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DCD70-8859-4801-BC7F-E66A019A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69D9C-9EC2-46D6-BB98-86B8A697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9E89AE-368A-40CF-AD75-515284F5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D54155-48E9-427F-B5CD-E31C1818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98CAF-6AFB-4B21-A7D6-A407CECA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27F99-B27D-4982-A1B6-E4BF998A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B9B9D3-06C0-4785-8DF0-A37EDE84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4C5DB9-5DFC-4BED-9C98-FB58EFBB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AA3280-7A5C-47A1-9308-149D42E8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3AEBD-5911-4218-B1A4-02917DB3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869F9D-F345-40F1-8A86-DBEF6087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2EB2D-CB60-40A3-A393-9B453002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540B5-4E76-4A44-A6CC-D0BB076F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DD751F-195C-4BD8-9FE1-8C813934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9A63A-BD84-4656-BB30-5FB1270F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C931CB-8693-4214-9F90-216692D7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EC862-E02A-4D96-9490-AB77DFB5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828D2D-4F4B-4727-980A-880068E8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683E0-BA54-4902-9F45-D369C46E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4FB05B-059D-47C1-BF6F-FEFF5860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086804-3853-4ACA-A0B4-D76B0452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FC565-4086-4A81-A213-0AEBDEDB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734763-2125-4D15-920C-66FFCAB5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C21C15-4164-4921-9873-4F609E08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E3661B-DBF2-4742-AC01-6360A9C8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80FD8C-048D-467D-97BD-4614E908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E6D58A-6B6C-4BF3-A051-6A5D6283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4EC26C-96A3-4A82-B284-1AFB1797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EE841-1D69-46DD-AD1C-C1A6ACD6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003A99-E07A-4AB8-AA00-AE152C23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BEA7C2-37A8-4755-8553-0AD29C15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6BD9F3-715C-44D2-8376-69CADA3D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CFBAD5-7C97-424C-8950-0F754A7B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BDAA00-EB1E-4345-8C56-46271EE7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F00B94-745C-460F-ADB7-3E29692E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437969-12ED-4574-BB15-DCC2FF19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F16E1A-E227-4DFD-BAE0-7F4B76A1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4CFB74-4533-4C66-ADB0-1451DE98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A5F-3B09-4A3F-8FD4-532FC798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398-8D03-4B71-AB9F-E6A33C27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1CFE-B618-46F5-9607-D0912D5F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0BE-7D75-40B6-BCDF-D9A88366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0FC1-9999-4859-BA50-504C22FC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F0EC-8608-4D40-9402-70B7DE1A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C4FF-7ED0-4553-8C3A-A2BDE0B3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B105-96AE-43DC-A10E-A8FB711F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1D09-D518-4144-86E2-C60C24BA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A94D-62A9-4952-8072-939BE2B9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D8E8-BC5F-4CA9-B03C-EFD04BDE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AE61-B983-4F32-945A-59EEE2A0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2E66-627A-4829-A3F8-10811AFE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2412-4E3C-499C-A52D-69ABA6D0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372-9D54-4ABE-A18C-433E09E3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A1C9-59ED-4EF5-9181-2236356F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95539-9CCD-4BDD-A208-E6260275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1BCB-4DA2-4083-9CC6-FFBB06AD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04EC-5538-482D-8691-2277BB11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08A0-5E1E-4A63-B03D-6D71A327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7FF91-26EC-48B5-9C12-7DC7D54C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19C1-6FE0-485E-9FD4-2E0D6CA1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69DD-1522-4E92-8B95-5FC367E7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0AE2-C566-47F7-98B5-B17CF20D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3678-DC3D-45E8-80FC-C0D2452F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B71-1868-4099-A52A-DA48F107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282DB-D502-4915-A982-081F4037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3FEF-8538-4EAA-811C-77B0D7E8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3365-6B4B-4204-8EB8-ACA82EA1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FAE24-77D6-4306-B0F8-C0C66354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86DE8-4F9B-460A-BFB3-C02AA84D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09679-A18C-419D-8934-B9F9E95E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E552-4940-44E7-A87F-1EF0DEFD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18C35-CFA2-4CBF-A115-484D0E92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DB51-4954-426B-AFEC-36787EBC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0C10E-9332-464E-B545-367ABF44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E0A-2291-4192-BC0F-380331AD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A979D-A729-44AD-BCF5-92BD2C68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B3FF0-4804-46B5-85D9-92FFF1AE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B22E2-F8F5-42DB-9862-CC599666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BF520-73F2-4A0E-997E-8B506913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E22E-4866-4E95-B1F6-FAE83E3E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D66D3-967C-4D88-BF28-A784EB71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32350-5E9A-4899-AA26-0A840028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CCDF3-C367-4779-A949-911800A9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C9CB7-9642-44B4-A677-DD3DEEA2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545EC-FB4A-44BC-86CB-F16EACA9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1D1-0E74-49C7-A3B7-F3D0C35C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71326-1F50-4FE1-963B-4588502F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132AF-059A-4FA8-9A51-24A9126D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5262B-EB5A-47A6-8E67-DF8DC6F9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3BE3-1D09-4AED-87E2-076CEF4C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DA431-C2A5-4830-B316-BF664BA8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48E3A-B81F-4E5D-9572-6BECEFAD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CCD93-064D-4C76-8CD1-A1494529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403E4-F68C-4D14-9353-6AE41AE2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09227-CAF1-4297-9B05-715C408D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3100A-0A13-48C6-BB45-D27E1C9C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49D0-393F-4343-BD87-BC62EC4913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C20C-26F5-4BC0-A9C8-AA7CC209DA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4EE6-DC64-4242-87FB-4EA85EE405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1741-30DE-4035-9FDA-9FFB98FDA0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110C-F99D-4FBD-A5C1-2353DBF3D5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9376-1DFF-4D2B-9030-D0E6BE8E9A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6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6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67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67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68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68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4DA0-8453-4597-9C02-B7B23E374B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3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3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4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4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5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6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3A44-7894-4C78-8DA7-23A6D8A92C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0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0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1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1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2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3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D209-5D72-4892-AB5C-657A2B3F2C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7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8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8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9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0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F660-F641-4179-8057-D26227A6C9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4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5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5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6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6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7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7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29A6-1F26-4860-8968-47034DB523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1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2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3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3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4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8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C062-428D-4E87-805D-9D76C9D31B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8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9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9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0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0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1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9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6705-93AF-48DF-8A32-2ECA723D12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6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6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6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7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7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8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1C85-35FE-4DBA-8023-B85CBD36F8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3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3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4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4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5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5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1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C646-C7D2-4982-A0EA-98AF6F2CF0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0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0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1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1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2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2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2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E5F9-998B-4AE6-B6EA-C168AC2A88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F5B6-8DED-4EB1-9B77-C97F3A8D26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3DCB-33AB-42DA-9A76-91DC27279F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CD3B-8E6A-4294-BF5A-6D5285ACA6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EE38-CB7A-4393-9297-715DCD0EEF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0E8E-4352-41FD-B566-E24CB33E24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0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81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4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Picture 6" descr="point01.jpg"/>
          <p:cNvPicPr/>
          <p:nvPr/>
        </p:nvPicPr>
        <p:blipFill>
          <a:blip r:embed="rId1"/>
          <a:stretch/>
        </p:blipFill>
        <p:spPr>
          <a:xfrm>
            <a:off x="3124080" y="2286000"/>
            <a:ext cx="2436840" cy="39495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7" descr="point01.jpg"/>
          <p:cNvPicPr/>
          <p:nvPr/>
        </p:nvPicPr>
        <p:blipFill>
          <a:blip r:embed="rId2"/>
          <a:stretch/>
        </p:blipFill>
        <p:spPr>
          <a:xfrm>
            <a:off x="3124080" y="2286000"/>
            <a:ext cx="2438640" cy="392112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itles Before Nam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456840" y="2437920"/>
            <a:ext cx="29718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fessor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cle J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Ob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5562720" y="2438280"/>
            <a:ext cx="30477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rsing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of our stamp collecting cl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Rounded Rectangular Callout 4"/>
          <p:cNvSpPr/>
          <p:nvPr/>
        </p:nvSpPr>
        <p:spPr>
          <a:xfrm>
            <a:off x="2133720" y="5410080"/>
            <a:ext cx="1981080" cy="1067040"/>
          </a:xfrm>
          <a:prstGeom prst="wedgeRoundRectCallout">
            <a:avLst>
              <a:gd name="adj1" fmla="val 46189"/>
              <a:gd name="adj2" fmla="val -1943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Rounded Rectangular Callout 5"/>
          <p:cNvSpPr/>
          <p:nvPr/>
        </p:nvSpPr>
        <p:spPr>
          <a:xfrm>
            <a:off x="5486400" y="5486400"/>
            <a:ext cx="2743200" cy="1143000"/>
          </a:xfrm>
          <a:prstGeom prst="wedgeRoundRectCallout">
            <a:avLst>
              <a:gd name="adj1" fmla="val -75597"/>
              <a:gd name="adj2" fmla="val -188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Picture 6" descr="point01.jpg"/>
          <p:cNvPicPr/>
          <p:nvPr/>
        </p:nvPicPr>
        <p:blipFill>
          <a:blip r:embed="rId1"/>
          <a:stretch/>
        </p:blipFill>
        <p:spPr>
          <a:xfrm>
            <a:off x="3240000" y="2286000"/>
            <a:ext cx="2205000" cy="3949560"/>
          </a:xfrm>
          <a:prstGeom prst="rect">
            <a:avLst/>
          </a:prstGeom>
          <a:ln w="0">
            <a:noFill/>
          </a:ln>
        </p:spPr>
      </p:pic>
      <p:pic>
        <p:nvPicPr>
          <p:cNvPr id="1427" name="Picture 7" descr="point01.jpg"/>
          <p:cNvPicPr/>
          <p:nvPr/>
        </p:nvPicPr>
        <p:blipFill>
          <a:blip r:embed="rId2"/>
          <a:stretch/>
        </p:blipFill>
        <p:spPr>
          <a:xfrm>
            <a:off x="3200400" y="2327400"/>
            <a:ext cx="2286000" cy="3921120"/>
          </a:xfrm>
          <a:prstGeom prst="rect">
            <a:avLst/>
          </a:prstGeom>
          <a:ln w="0">
            <a:noFill/>
          </a:ln>
        </p:spPr>
      </p:pic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pecific Plac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456840" y="2437920"/>
            <a:ext cx="29718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o’s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o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w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k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r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5562720" y="2438280"/>
            <a:ext cx="30477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o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nd out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Rounded Rectangular Callout 4"/>
          <p:cNvSpPr/>
          <p:nvPr/>
        </p:nvSpPr>
        <p:spPr>
          <a:xfrm>
            <a:off x="1143000" y="4648320"/>
            <a:ext cx="1981080" cy="1066680"/>
          </a:xfrm>
          <a:prstGeom prst="wedgeRoundRectCallout">
            <a:avLst>
              <a:gd name="adj1" fmla="val 82666"/>
              <a:gd name="adj2" fmla="val -19015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Rounded Rectangular Callout 5"/>
          <p:cNvSpPr/>
          <p:nvPr/>
        </p:nvSpPr>
        <p:spPr>
          <a:xfrm>
            <a:off x="5257800" y="5181480"/>
            <a:ext cx="2743200" cy="1143000"/>
          </a:xfrm>
          <a:prstGeom prst="wedgeRoundRectCallout">
            <a:avLst>
              <a:gd name="adj1" fmla="val -59916"/>
              <a:gd name="adj2" fmla="val -224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Picture 6" descr="point01.jpg"/>
          <p:cNvPicPr/>
          <p:nvPr/>
        </p:nvPicPr>
        <p:blipFill>
          <a:blip r:embed="rId1"/>
          <a:stretch/>
        </p:blipFill>
        <p:spPr>
          <a:xfrm>
            <a:off x="3124080" y="2590920"/>
            <a:ext cx="2436840" cy="328284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7" descr="point01.jpg"/>
          <p:cNvPicPr/>
          <p:nvPr/>
        </p:nvPicPr>
        <p:blipFill>
          <a:blip r:embed="rId2"/>
          <a:stretch/>
        </p:blipFill>
        <p:spPr>
          <a:xfrm>
            <a:off x="3124080" y="2581200"/>
            <a:ext cx="2438640" cy="3286080"/>
          </a:xfrm>
          <a:prstGeom prst="rect">
            <a:avLst/>
          </a:prstGeom>
          <a:ln w="0">
            <a:noFill/>
          </a:ln>
        </p:spPr>
      </p:pic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Organization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ld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dlif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ican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rs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hout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vironmental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gency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ons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cal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anitaria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Rounded Rectangular Callout 4"/>
          <p:cNvSpPr/>
          <p:nvPr/>
        </p:nvSpPr>
        <p:spPr>
          <a:xfrm>
            <a:off x="1981080" y="5638680"/>
            <a:ext cx="1981440" cy="1067040"/>
          </a:xfrm>
          <a:prstGeom prst="wedgeRoundRectCallout">
            <a:avLst>
              <a:gd name="adj1" fmla="val 56962"/>
              <a:gd name="adj2" fmla="val -29287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Rounded Rectangular Callout 5"/>
          <p:cNvSpPr/>
          <p:nvPr/>
        </p:nvSpPr>
        <p:spPr>
          <a:xfrm>
            <a:off x="5029200" y="5410080"/>
            <a:ext cx="2743200" cy="1143000"/>
          </a:xfrm>
          <a:prstGeom prst="wedgeRoundRectCallout">
            <a:avLst>
              <a:gd name="adj1" fmla="val -66708"/>
              <a:gd name="adj2" fmla="val -260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Picture 6" descr="point01.jpg"/>
          <p:cNvPicPr/>
          <p:nvPr/>
        </p:nvPicPr>
        <p:blipFill>
          <a:blip r:embed="rId1"/>
          <a:stretch/>
        </p:blipFill>
        <p:spPr>
          <a:xfrm>
            <a:off x="3124080" y="2341440"/>
            <a:ext cx="2436840" cy="383868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7" descr="point01.jpg"/>
          <p:cNvPicPr/>
          <p:nvPr/>
        </p:nvPicPr>
        <p:blipFill>
          <a:blip r:embed="rId2"/>
          <a:stretch/>
        </p:blipFill>
        <p:spPr>
          <a:xfrm>
            <a:off x="3124080" y="2362320"/>
            <a:ext cx="2438640" cy="3841560"/>
          </a:xfrm>
          <a:prstGeom prst="rect">
            <a:avLst/>
          </a:prstGeom>
          <a:ln w="0">
            <a:noFill/>
          </a:ln>
        </p:spPr>
      </p:pic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pani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bucks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p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a-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a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pa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l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puter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ufactu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Rounded Rectangular Callout 4"/>
          <p:cNvSpPr/>
          <p:nvPr/>
        </p:nvSpPr>
        <p:spPr>
          <a:xfrm>
            <a:off x="2133720" y="5410080"/>
            <a:ext cx="1981080" cy="1067040"/>
          </a:xfrm>
          <a:prstGeom prst="wedgeRoundRectCallout">
            <a:avLst>
              <a:gd name="adj1" fmla="val 59268"/>
              <a:gd name="adj2" fmla="val -24287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Rounded Rectangular Callout 5"/>
          <p:cNvSpPr/>
          <p:nvPr/>
        </p:nvSpPr>
        <p:spPr>
          <a:xfrm>
            <a:off x="5562720" y="4952880"/>
            <a:ext cx="2743200" cy="1143000"/>
          </a:xfrm>
          <a:prstGeom prst="wedgeRoundRectCallout">
            <a:avLst>
              <a:gd name="adj1" fmla="val -92263"/>
              <a:gd name="adj2" fmla="val -19133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3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6" descr="point01.jpg"/>
          <p:cNvPicPr/>
          <p:nvPr/>
        </p:nvPicPr>
        <p:blipFill>
          <a:blip r:embed="rId1"/>
          <a:stretch/>
        </p:blipFill>
        <p:spPr>
          <a:xfrm>
            <a:off x="2971800" y="3048120"/>
            <a:ext cx="2436840" cy="339084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7" descr="point01.jpg"/>
          <p:cNvPicPr/>
          <p:nvPr/>
        </p:nvPicPr>
        <p:blipFill>
          <a:blip r:embed="rId2"/>
          <a:stretch/>
        </p:blipFill>
        <p:spPr>
          <a:xfrm>
            <a:off x="2971800" y="3048120"/>
            <a:ext cx="2438280" cy="3392280"/>
          </a:xfrm>
          <a:prstGeom prst="rect">
            <a:avLst/>
          </a:prstGeom>
          <a:ln w="0">
            <a:noFill/>
          </a:ln>
        </p:spPr>
      </p:pic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Product Nam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pucc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er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e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ok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Rounded Rectangular Callout 4"/>
          <p:cNvSpPr/>
          <p:nvPr/>
        </p:nvSpPr>
        <p:spPr>
          <a:xfrm>
            <a:off x="2133720" y="5410080"/>
            <a:ext cx="1981080" cy="1067040"/>
          </a:xfrm>
          <a:prstGeom prst="wedgeRoundRectCallout">
            <a:avLst>
              <a:gd name="adj1" fmla="val 93115"/>
              <a:gd name="adj2" fmla="val -22287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Rounded Rectangular Callout 5"/>
          <p:cNvSpPr/>
          <p:nvPr/>
        </p:nvSpPr>
        <p:spPr>
          <a:xfrm>
            <a:off x="4495680" y="5334120"/>
            <a:ext cx="2743200" cy="1143000"/>
          </a:xfrm>
          <a:prstGeom prst="wedgeRoundRectCallout">
            <a:avLst>
              <a:gd name="adj1" fmla="val -88375"/>
              <a:gd name="adj2" fmla="val -20200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8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Picture 6" descr="point01.jpg"/>
          <p:cNvPicPr/>
          <p:nvPr/>
        </p:nvPicPr>
        <p:blipFill>
          <a:blip r:embed="rId1"/>
          <a:stretch/>
        </p:blipFill>
        <p:spPr>
          <a:xfrm>
            <a:off x="3124080" y="2286000"/>
            <a:ext cx="2436840" cy="394956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7" descr="point01.jpg"/>
          <p:cNvPicPr/>
          <p:nvPr/>
        </p:nvPicPr>
        <p:blipFill>
          <a:blip r:embed="rId2"/>
          <a:stretch/>
        </p:blipFill>
        <p:spPr>
          <a:xfrm>
            <a:off x="3124080" y="2286000"/>
            <a:ext cx="2438640" cy="3921120"/>
          </a:xfrm>
          <a:prstGeom prst="rect">
            <a:avLst/>
          </a:prstGeom>
          <a:ln w="0">
            <a:noFill/>
          </a:ln>
        </p:spPr>
      </p:pic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Religion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dh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h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y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v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5562360" y="2438280"/>
            <a:ext cx="3352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tatio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etar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ur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ship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Rounded Rectangular Callout 4"/>
          <p:cNvSpPr/>
          <p:nvPr/>
        </p:nvSpPr>
        <p:spPr>
          <a:xfrm>
            <a:off x="2133720" y="5410080"/>
            <a:ext cx="1981080" cy="1067040"/>
          </a:xfrm>
          <a:prstGeom prst="wedgeRoundRectCallout">
            <a:avLst>
              <a:gd name="adj1" fmla="val 46189"/>
              <a:gd name="adj2" fmla="val -1943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Rounded Rectangular Callout 5"/>
          <p:cNvSpPr/>
          <p:nvPr/>
        </p:nvSpPr>
        <p:spPr>
          <a:xfrm>
            <a:off x="5486400" y="5486400"/>
            <a:ext cx="2743200" cy="1143000"/>
          </a:xfrm>
          <a:prstGeom prst="wedgeRoundRectCallout">
            <a:avLst>
              <a:gd name="adj1" fmla="val -75597"/>
              <a:gd name="adj2" fmla="val -188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Picture 6" descr="point01.jpg"/>
          <p:cNvPicPr/>
          <p:nvPr/>
        </p:nvPicPr>
        <p:blipFill>
          <a:blip r:embed="rId1"/>
          <a:stretch/>
        </p:blipFill>
        <p:spPr>
          <a:xfrm>
            <a:off x="3224160" y="2286000"/>
            <a:ext cx="2236680" cy="394956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7" descr="point01.jpg"/>
          <p:cNvPicPr/>
          <p:nvPr/>
        </p:nvPicPr>
        <p:blipFill>
          <a:blip r:embed="rId2"/>
          <a:stretch/>
        </p:blipFill>
        <p:spPr>
          <a:xfrm>
            <a:off x="3200400" y="2286000"/>
            <a:ext cx="2286000" cy="3962520"/>
          </a:xfrm>
          <a:prstGeom prst="rect">
            <a:avLst/>
          </a:prstGeom>
          <a:ln w="0">
            <a:noFill/>
          </a:ln>
        </p:spPr>
      </p:pic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Languag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ch f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sian bo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ish m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ed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at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d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Rounded Rectangular Callout 4"/>
          <p:cNvSpPr/>
          <p:nvPr/>
        </p:nvSpPr>
        <p:spPr>
          <a:xfrm>
            <a:off x="990720" y="4724280"/>
            <a:ext cx="1981080" cy="1067040"/>
          </a:xfrm>
          <a:prstGeom prst="wedgeRoundRectCallout">
            <a:avLst>
              <a:gd name="adj1" fmla="val 121574"/>
              <a:gd name="adj2" fmla="val -205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Rounded Rectangular Callout 5"/>
          <p:cNvSpPr/>
          <p:nvPr/>
        </p:nvSpPr>
        <p:spPr>
          <a:xfrm>
            <a:off x="5105520" y="4876920"/>
            <a:ext cx="2743200" cy="1143000"/>
          </a:xfrm>
          <a:prstGeom prst="wedgeRoundRectCallout">
            <a:avLst>
              <a:gd name="adj1" fmla="val -80041"/>
              <a:gd name="adj2" fmla="val -208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8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Picture 6" descr="point01.jpg"/>
          <p:cNvPicPr/>
          <p:nvPr/>
        </p:nvPicPr>
        <p:blipFill>
          <a:blip r:embed="rId1"/>
          <a:stretch/>
        </p:blipFill>
        <p:spPr>
          <a:xfrm>
            <a:off x="3200400" y="2286000"/>
            <a:ext cx="2206800" cy="394956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7" descr="point01.jpg"/>
          <p:cNvPicPr/>
          <p:nvPr/>
        </p:nvPicPr>
        <p:blipFill>
          <a:blip r:embed="rId2"/>
          <a:stretch/>
        </p:blipFill>
        <p:spPr>
          <a:xfrm>
            <a:off x="3200400" y="2155680"/>
            <a:ext cx="2286000" cy="4092840"/>
          </a:xfrm>
          <a:prstGeom prst="rect">
            <a:avLst/>
          </a:prstGeom>
          <a:ln w="0">
            <a:noFill/>
          </a:ln>
        </p:spPr>
      </p:pic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Nationaliti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il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ent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yp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mer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noisse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ramid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i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Rounded Rectangular Callout 4"/>
          <p:cNvSpPr/>
          <p:nvPr/>
        </p:nvSpPr>
        <p:spPr>
          <a:xfrm>
            <a:off x="1371600" y="4800600"/>
            <a:ext cx="1981080" cy="1066680"/>
          </a:xfrm>
          <a:prstGeom prst="wedgeRoundRectCallout">
            <a:avLst>
              <a:gd name="adj1" fmla="val 69268"/>
              <a:gd name="adj2" fmla="val -2085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Rounded Rectangular Callout 5"/>
          <p:cNvSpPr/>
          <p:nvPr/>
        </p:nvSpPr>
        <p:spPr>
          <a:xfrm>
            <a:off x="4876920" y="4800600"/>
            <a:ext cx="2743200" cy="1143000"/>
          </a:xfrm>
          <a:prstGeom prst="wedgeRoundRectCallout">
            <a:avLst>
              <a:gd name="adj1" fmla="val -48930"/>
              <a:gd name="adj2" fmla="val -20600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3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Picture 6" descr="point01.jpg"/>
          <p:cNvPicPr/>
          <p:nvPr/>
        </p:nvPicPr>
        <p:blipFill>
          <a:blip r:embed="rId1"/>
          <a:stretch/>
        </p:blipFill>
        <p:spPr>
          <a:xfrm>
            <a:off x="3200400" y="3124080"/>
            <a:ext cx="2436840" cy="328320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7" descr="point01.jpg"/>
          <p:cNvPicPr/>
          <p:nvPr/>
        </p:nvPicPr>
        <p:blipFill>
          <a:blip r:embed="rId2"/>
          <a:stretch/>
        </p:blipFill>
        <p:spPr>
          <a:xfrm>
            <a:off x="3200400" y="3114720"/>
            <a:ext cx="2438280" cy="3286080"/>
          </a:xfrm>
          <a:prstGeom prst="rect">
            <a:avLst/>
          </a:prstGeom>
          <a:ln w="0">
            <a:noFill/>
          </a:ln>
        </p:spPr>
      </p:pic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oliday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ksg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th of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ily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um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eworks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Rounded Rectangular Callout 4"/>
          <p:cNvSpPr/>
          <p:nvPr/>
        </p:nvSpPr>
        <p:spPr>
          <a:xfrm>
            <a:off x="609480" y="4191120"/>
            <a:ext cx="1981440" cy="1066680"/>
          </a:xfrm>
          <a:prstGeom prst="wedgeRoundRectCallout">
            <a:avLst>
              <a:gd name="adj1" fmla="val 130037"/>
              <a:gd name="adj2" fmla="val -11144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Rounded Rectangular Callout 5"/>
          <p:cNvSpPr/>
          <p:nvPr/>
        </p:nvSpPr>
        <p:spPr>
          <a:xfrm>
            <a:off x="6019920" y="4343400"/>
            <a:ext cx="2743200" cy="1143000"/>
          </a:xfrm>
          <a:prstGeom prst="wedgeRoundRectCallout">
            <a:avLst>
              <a:gd name="adj1" fmla="val -100041"/>
              <a:gd name="adj2" fmla="val -12200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Picture 6" descr="point01.jpg"/>
          <p:cNvPicPr/>
          <p:nvPr/>
        </p:nvPicPr>
        <p:blipFill>
          <a:blip r:embed="rId1"/>
          <a:stretch/>
        </p:blipFill>
        <p:spPr>
          <a:xfrm>
            <a:off x="3882960" y="3733920"/>
            <a:ext cx="1982880" cy="312408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7" descr="point01.jpg"/>
          <p:cNvPicPr/>
          <p:nvPr/>
        </p:nvPicPr>
        <p:blipFill>
          <a:blip r:embed="rId2"/>
          <a:stretch/>
        </p:blipFill>
        <p:spPr>
          <a:xfrm>
            <a:off x="3886200" y="3657600"/>
            <a:ext cx="2031840" cy="3200400"/>
          </a:xfrm>
          <a:prstGeom prst="rect">
            <a:avLst/>
          </a:prstGeom>
          <a:ln w="0">
            <a:noFill/>
          </a:ln>
        </p:spPr>
      </p:pic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epartment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456840" y="2438280"/>
            <a:ext cx="3352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ision of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or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h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lando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ernal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u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’s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efigh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x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l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Rounded Rectangular Callout 4"/>
          <p:cNvSpPr/>
          <p:nvPr/>
        </p:nvSpPr>
        <p:spPr>
          <a:xfrm>
            <a:off x="1752480" y="5562720"/>
            <a:ext cx="1981440" cy="1066680"/>
          </a:xfrm>
          <a:prstGeom prst="wedgeRoundRectCallout">
            <a:avLst>
              <a:gd name="adj1" fmla="val 103115"/>
              <a:gd name="adj2" fmla="val -14858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Rounded Rectangular Callout 5"/>
          <p:cNvSpPr/>
          <p:nvPr/>
        </p:nvSpPr>
        <p:spPr>
          <a:xfrm>
            <a:off x="6172200" y="5410080"/>
            <a:ext cx="2743200" cy="1143000"/>
          </a:xfrm>
          <a:prstGeom prst="wedgeRoundRectCallout">
            <a:avLst>
              <a:gd name="adj1" fmla="val -96708"/>
              <a:gd name="adj2" fmla="val -13133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3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2" name="Picture 5" descr="question.jpg"/>
          <p:cNvPicPr/>
          <p:nvPr/>
        </p:nvPicPr>
        <p:blipFill>
          <a:blip r:embed="rId1"/>
          <a:stretch/>
        </p:blipFill>
        <p:spPr>
          <a:xfrm>
            <a:off x="1905120" y="2133720"/>
            <a:ext cx="5029200" cy="4578120"/>
          </a:xfrm>
          <a:prstGeom prst="rect">
            <a:avLst/>
          </a:prstGeom>
          <a:ln w="0">
            <a:noFill/>
          </a:ln>
        </p:spPr>
      </p:pic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apitalization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4" name="Rounded Rectangular Callout 7"/>
          <p:cNvSpPr/>
          <p:nvPr/>
        </p:nvSpPr>
        <p:spPr>
          <a:xfrm>
            <a:off x="304920" y="1828800"/>
            <a:ext cx="2133360" cy="1752480"/>
          </a:xfrm>
          <a:prstGeom prst="wedgeRoundRectCallout">
            <a:avLst>
              <a:gd name="adj1" fmla="val 141203"/>
              <a:gd name="adj2" fmla="val 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api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Rounded Rectangular Callout 8"/>
          <p:cNvSpPr/>
          <p:nvPr/>
        </p:nvSpPr>
        <p:spPr>
          <a:xfrm>
            <a:off x="6477120" y="1600200"/>
            <a:ext cx="2514600" cy="1981080"/>
          </a:xfrm>
          <a:prstGeom prst="wedgeRoundRectCallout">
            <a:avLst>
              <a:gd name="adj1" fmla="val -103680"/>
              <a:gd name="adj2" fmla="val 1370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should that letter remai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lower cas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6" name="Rectangle 6" descr=""/>
          <p:cNvPicPr/>
          <p:nvPr/>
        </p:nvPicPr>
        <p:blipFill>
          <a:blip r:embed="rId2"/>
          <a:stretch/>
        </p:blipFill>
        <p:spPr>
          <a:xfrm>
            <a:off x="1517760" y="3413160"/>
            <a:ext cx="1304640" cy="1450800"/>
          </a:xfrm>
          <a:prstGeom prst="rect">
            <a:avLst/>
          </a:prstGeom>
          <a:ln w="0">
            <a:noFill/>
          </a:ln>
        </p:spPr>
      </p:pic>
      <p:pic>
        <p:nvPicPr>
          <p:cNvPr id="1387" name="Rectangle 9" descr=""/>
          <p:cNvPicPr/>
          <p:nvPr/>
        </p:nvPicPr>
        <p:blipFill>
          <a:blip r:embed="rId3"/>
          <a:stretch/>
        </p:blipFill>
        <p:spPr>
          <a:xfrm>
            <a:off x="6229440" y="3413160"/>
            <a:ext cx="1218960" cy="1450800"/>
          </a:xfrm>
          <a:prstGeom prst="rect">
            <a:avLst/>
          </a:prstGeom>
          <a:ln w="0">
            <a:noFill/>
          </a:ln>
        </p:spPr>
      </p:pic>
      <p:sp>
        <p:nvSpPr>
          <p:cNvPr id="1388" name="Rectangle 8"/>
          <p:cNvSpPr/>
          <p:nvPr/>
        </p:nvSpPr>
        <p:spPr>
          <a:xfrm>
            <a:off x="36360" y="-6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01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201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102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Picture 6" descr="point01.jpg"/>
          <p:cNvPicPr/>
          <p:nvPr/>
        </p:nvPicPr>
        <p:blipFill>
          <a:blip r:embed="rId1"/>
          <a:stretch/>
        </p:blipFill>
        <p:spPr>
          <a:xfrm>
            <a:off x="2971800" y="3048120"/>
            <a:ext cx="2436840" cy="3390840"/>
          </a:xfrm>
          <a:prstGeom prst="rect">
            <a:avLst/>
          </a:prstGeom>
          <a:ln w="0">
            <a:noFill/>
          </a:ln>
        </p:spPr>
      </p:pic>
      <p:pic>
        <p:nvPicPr>
          <p:cNvPr id="1490" name="Picture 7" descr="point01.jpg"/>
          <p:cNvPicPr/>
          <p:nvPr/>
        </p:nvPicPr>
        <p:blipFill>
          <a:blip r:embed="rId2"/>
          <a:stretch/>
        </p:blipFill>
        <p:spPr>
          <a:xfrm>
            <a:off x="2971800" y="3048120"/>
            <a:ext cx="2438280" cy="3392280"/>
          </a:xfrm>
          <a:prstGeom prst="rect">
            <a:avLst/>
          </a:prstGeom>
          <a:ln w="0">
            <a:noFill/>
          </a:ln>
        </p:spPr>
      </p:pic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istorical Era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c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d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d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t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osaurs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iferation of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ram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or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omic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ounded Rectangular Callout 4"/>
          <p:cNvSpPr/>
          <p:nvPr/>
        </p:nvSpPr>
        <p:spPr>
          <a:xfrm>
            <a:off x="2133720" y="5410080"/>
            <a:ext cx="1981080" cy="1067040"/>
          </a:xfrm>
          <a:prstGeom prst="wedgeRoundRectCallout">
            <a:avLst>
              <a:gd name="adj1" fmla="val 93115"/>
              <a:gd name="adj2" fmla="val -22287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Rounded Rectangular Callout 5"/>
          <p:cNvSpPr/>
          <p:nvPr/>
        </p:nvSpPr>
        <p:spPr>
          <a:xfrm>
            <a:off x="4495680" y="5334120"/>
            <a:ext cx="2743200" cy="1143000"/>
          </a:xfrm>
          <a:prstGeom prst="wedgeRoundRectCallout">
            <a:avLst>
              <a:gd name="adj1" fmla="val -88375"/>
              <a:gd name="adj2" fmla="val -20200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8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Picture 6" descr="point01.jpg"/>
          <p:cNvPicPr/>
          <p:nvPr/>
        </p:nvPicPr>
        <p:blipFill>
          <a:blip r:embed="rId1"/>
          <a:stretch/>
        </p:blipFill>
        <p:spPr>
          <a:xfrm>
            <a:off x="3124080" y="2286000"/>
            <a:ext cx="2436840" cy="394956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7" descr="point01.jpg"/>
          <p:cNvPicPr/>
          <p:nvPr/>
        </p:nvPicPr>
        <p:blipFill>
          <a:blip r:embed="rId2"/>
          <a:stretch/>
        </p:blipFill>
        <p:spPr>
          <a:xfrm>
            <a:off x="3124080" y="2286000"/>
            <a:ext cx="2438640" cy="3921120"/>
          </a:xfrm>
          <a:prstGeom prst="rect">
            <a:avLst/>
          </a:prstGeom>
          <a:ln w="0">
            <a:noFill/>
          </a:ln>
        </p:spPr>
      </p:pic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Regions of the Country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5562360" y="2438280"/>
            <a:ext cx="3352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h ex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wing from the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 of the 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Rounded Rectangular Callout 4"/>
          <p:cNvSpPr/>
          <p:nvPr/>
        </p:nvSpPr>
        <p:spPr>
          <a:xfrm>
            <a:off x="2133720" y="5410080"/>
            <a:ext cx="1981080" cy="1067040"/>
          </a:xfrm>
          <a:prstGeom prst="wedgeRoundRectCallout">
            <a:avLst>
              <a:gd name="adj1" fmla="val 46189"/>
              <a:gd name="adj2" fmla="val -1943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Rounded Rectangular Callout 5"/>
          <p:cNvSpPr/>
          <p:nvPr/>
        </p:nvSpPr>
        <p:spPr>
          <a:xfrm>
            <a:off x="5486400" y="5486400"/>
            <a:ext cx="2743200" cy="1143000"/>
          </a:xfrm>
          <a:prstGeom prst="wedgeRoundRectCallout">
            <a:avLst>
              <a:gd name="adj1" fmla="val -75597"/>
              <a:gd name="adj2" fmla="val -188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Picture 6" descr="point01.jpg"/>
          <p:cNvPicPr/>
          <p:nvPr/>
        </p:nvPicPr>
        <p:blipFill>
          <a:blip r:embed="rId1"/>
          <a:stretch/>
        </p:blipFill>
        <p:spPr>
          <a:xfrm>
            <a:off x="3124080" y="2908440"/>
            <a:ext cx="2237040" cy="394956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7" descr="point01.jpg"/>
          <p:cNvPicPr/>
          <p:nvPr/>
        </p:nvPicPr>
        <p:blipFill>
          <a:blip r:embed="rId2"/>
          <a:stretch/>
        </p:blipFill>
        <p:spPr>
          <a:xfrm>
            <a:off x="3124080" y="2895480"/>
            <a:ext cx="2286000" cy="3962520"/>
          </a:xfrm>
          <a:prstGeom prst="rect">
            <a:avLst/>
          </a:prstGeom>
          <a:ln w="0">
            <a:noFill/>
          </a:ln>
        </p:spPr>
      </p:pic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urse Nam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amentals of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ermediat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geb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emporary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ge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Rounded Rectangular Callout 4"/>
          <p:cNvSpPr/>
          <p:nvPr/>
        </p:nvSpPr>
        <p:spPr>
          <a:xfrm>
            <a:off x="1066680" y="5562720"/>
            <a:ext cx="1981440" cy="1066680"/>
          </a:xfrm>
          <a:prstGeom prst="wedgeRoundRectCallout">
            <a:avLst>
              <a:gd name="adj1" fmla="val 111574"/>
              <a:gd name="adj2" fmla="val -2285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Rounded Rectangular Callout 5"/>
          <p:cNvSpPr/>
          <p:nvPr/>
        </p:nvSpPr>
        <p:spPr>
          <a:xfrm>
            <a:off x="5486400" y="5410080"/>
            <a:ext cx="2743200" cy="1143000"/>
          </a:xfrm>
          <a:prstGeom prst="wedgeRoundRectCallout">
            <a:avLst>
              <a:gd name="adj1" fmla="val -96152"/>
              <a:gd name="adj2" fmla="val -20333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8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6" descr="point01.jpg"/>
          <p:cNvPicPr/>
          <p:nvPr/>
        </p:nvPicPr>
        <p:blipFill>
          <a:blip r:embed="rId1"/>
          <a:stretch/>
        </p:blipFill>
        <p:spPr>
          <a:xfrm>
            <a:off x="3200400" y="2286000"/>
            <a:ext cx="2206800" cy="394956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7" descr="point01.jpg"/>
          <p:cNvPicPr/>
          <p:nvPr/>
        </p:nvPicPr>
        <p:blipFill>
          <a:blip r:embed="rId2"/>
          <a:stretch/>
        </p:blipFill>
        <p:spPr>
          <a:xfrm>
            <a:off x="3200400" y="2155680"/>
            <a:ext cx="2286000" cy="4092840"/>
          </a:xfrm>
          <a:prstGeom prst="rect">
            <a:avLst/>
          </a:prstGeom>
          <a:ln w="0">
            <a:noFill/>
          </a:ln>
        </p:spPr>
      </p:pic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itles of Work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y-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ie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ri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hick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st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ie ever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anc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b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Rounded Rectangular Callout 4"/>
          <p:cNvSpPr/>
          <p:nvPr/>
        </p:nvSpPr>
        <p:spPr>
          <a:xfrm>
            <a:off x="1371600" y="4800600"/>
            <a:ext cx="1981080" cy="1066680"/>
          </a:xfrm>
          <a:prstGeom prst="wedgeRoundRectCallout">
            <a:avLst>
              <a:gd name="adj1" fmla="val 69268"/>
              <a:gd name="adj2" fmla="val -2085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Rounded Rectangular Callout 5"/>
          <p:cNvSpPr/>
          <p:nvPr/>
        </p:nvSpPr>
        <p:spPr>
          <a:xfrm>
            <a:off x="4800600" y="4952880"/>
            <a:ext cx="2743200" cy="1143000"/>
          </a:xfrm>
          <a:prstGeom prst="wedgeRoundRectCallout">
            <a:avLst>
              <a:gd name="adj1" fmla="val -47263"/>
              <a:gd name="adj2" fmla="val -220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3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8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9" name="Picture 5" descr="copyright.jpg"/>
          <p:cNvPicPr/>
          <p:nvPr/>
        </p:nvPicPr>
        <p:blipFill>
          <a:blip r:embed="rId1"/>
          <a:stretch/>
        </p:blipFill>
        <p:spPr>
          <a:xfrm>
            <a:off x="5867280" y="3429000"/>
            <a:ext cx="1752840" cy="3205080"/>
          </a:xfrm>
          <a:prstGeom prst="rect">
            <a:avLst/>
          </a:prstGeom>
          <a:ln w="0">
            <a:noFill/>
          </a:ln>
        </p:spPr>
      </p:pic>
      <p:sp>
        <p:nvSpPr>
          <p:cNvPr id="1520" name="Rounded Rectangular Callout 6"/>
          <p:cNvSpPr/>
          <p:nvPr/>
        </p:nvSpPr>
        <p:spPr>
          <a:xfrm>
            <a:off x="2514600" y="4495680"/>
            <a:ext cx="2133720" cy="1752840"/>
          </a:xfrm>
          <a:prstGeom prst="wedgeRoundRectCallout">
            <a:avLst>
              <a:gd name="adj1" fmla="val 119638"/>
              <a:gd name="adj2" fmla="val -3379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8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10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103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TextBox 9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ron likes spicy foods, so he chose the Asi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 wrap. Martha prefers bland dishe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dered a large basket of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3" name="TextBox 6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ron likes spicy foods, so he chose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si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 wrap. Martha prefers bland dishe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dered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ar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sket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ren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TextBox 7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ron likes spicy foods, so he chose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si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 wrap. Martha prefers bland dishe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dered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ar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sket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ren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7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6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nelle will take Fundamentals of Biology n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mester; she hates Science classes but needs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dits to transfer to a univers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ndamentals of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TextBox 5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nelle will tak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undamentals of Bi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mester; she hate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c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lasses but needs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dits to transfer to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univers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ndamentals of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TextBox 6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nelle will tak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undamentals of Bi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mester; she hate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c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lasses but needs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dits to transfer to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univers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ndamentals of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6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0" name="TextBox 3"/>
          <p:cNvSpPr/>
          <p:nvPr/>
        </p:nvSpPr>
        <p:spPr>
          <a:xfrm>
            <a:off x="380880" y="1676520"/>
            <a:ext cx="838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 family prefers to cook a ham on holidays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e Bart is a vegetarian, so my mother prepa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furkey” for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li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TextBox 5"/>
          <p:cNvSpPr/>
          <p:nvPr/>
        </p:nvSpPr>
        <p:spPr>
          <a:xfrm>
            <a:off x="380880" y="1676520"/>
            <a:ext cx="8382240" cy="4800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 family prefers to cook a ham 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lida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un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rt is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vegetari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so my mother prepa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furkey” for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li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TextBox 6"/>
          <p:cNvSpPr/>
          <p:nvPr/>
        </p:nvSpPr>
        <p:spPr>
          <a:xfrm>
            <a:off x="380880" y="1676520"/>
            <a:ext cx="8382240" cy="4800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 family prefers to cook a ham 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lida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n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rt is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vegetari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so my mother prepa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furkey” for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li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n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4" name="TextBox 3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i is vietnamese, but she grew up in Puerto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o, where she attended cooking school; now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is the head chef at the Cuban restaurant 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nge Aven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ietnam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TextBox 5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i i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vietname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she grew up in Puer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o, where she attend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oking scho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; no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is the head chef at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ub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estaurant 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nge Aven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ietnam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Box 6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i i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ietname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she grew up in Puer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o, where she attend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oking scho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; no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is the head chef at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ub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estaurant 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nge Aven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ietnam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4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8" name="TextBox 3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urn left! We need to go west on Highway 50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wise, we will be heading toward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tona b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way 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tona B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TextBox 5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urn left! We need to g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ighway 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wise, we will be heading toward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aytona b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way 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tona B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TextBox 6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urn left! We need to g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ighway 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wise, we will be heading toward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aytona B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way 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aytona B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3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Picture 3" descr="point01b.JPG"/>
          <p:cNvPicPr/>
          <p:nvPr/>
        </p:nvPicPr>
        <p:blipFill>
          <a:blip r:embed="rId1"/>
          <a:stretch/>
        </p:blipFill>
        <p:spPr>
          <a:xfrm>
            <a:off x="380880" y="304920"/>
            <a:ext cx="3505320" cy="5680080"/>
          </a:xfrm>
          <a:prstGeom prst="rect">
            <a:avLst/>
          </a:prstGeom>
          <a:ln w="0">
            <a:noFill/>
          </a:ln>
        </p:spPr>
      </p:pic>
      <p:sp>
        <p:nvSpPr>
          <p:cNvPr id="1390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10384"/>
              <a:gd name="adj2" fmla="val -5318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capitalizing th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first let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first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 sentence, the pronou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oper nou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2" name="TextBox 3"/>
          <p:cNvSpPr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telyn used her last dollar to buy m&amp;m cand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would have enjoyed a Pepsi to wash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wn but the cafeteria prices were too expens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&amp;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fe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TextBox 5"/>
          <p:cNvSpPr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telyn used her last dollar to bu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&amp;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d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would have enjoyed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eps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wash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wn but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fet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ices were too expens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&amp;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fe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TextBox 6"/>
          <p:cNvSpPr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telyn used her last dollar to bu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&amp;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d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would have enjoyed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eps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wash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wn but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fet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ices were too expens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&amp;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fe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2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6" name="TextBox 3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an is taking a religion class this semester;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kes the professor and the readings, but he 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joys the intoxicating perfume that Isabella, 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blemate, w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li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TextBox 6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an is taking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lig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lass this semester;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kes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fess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the readings, but he 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joys the intoxicat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erfu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Isabella, 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blemate, w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li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TextBox 9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an is taking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lig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lass this semester;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kes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fess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the readings, but he 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joys the intoxicat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erfu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Isabella, 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blemate, w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li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1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rick visited the police station to see if some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found Squeeze, his 9-foot albino python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r Rodriguez said that no reptiles had b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ently cau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lice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yth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rick visited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olice s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see if some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found Squeeze, his 9-foot albin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yth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ffic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odriguez said that no reptiles had b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ently cau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lice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yth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rick visited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olice s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see if some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found Squeeze, his 9-foot albin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yth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Offic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odriguez said that no reptiles had b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ently cau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lice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yth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Offi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0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4" name="TextBox 3"/>
          <p:cNvSpPr/>
          <p:nvPr/>
        </p:nvSpPr>
        <p:spPr>
          <a:xfrm>
            <a:off x="533520" y="160020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ffrey thought he would hate humanities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ce Professor Kimble reached the Itali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naissance, the beautiful marble nudes g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ffrey’s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naiss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TextBox 5"/>
          <p:cNvSpPr/>
          <p:nvPr/>
        </p:nvSpPr>
        <p:spPr>
          <a:xfrm>
            <a:off x="533520" y="1600200"/>
            <a:ext cx="8076960" cy="51814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ffrey thought he would hat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uman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c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fess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Kimble reached the Itali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naiss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the beautiful marble nudes g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ffrey’s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naiss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TextBox 6"/>
          <p:cNvSpPr/>
          <p:nvPr/>
        </p:nvSpPr>
        <p:spPr>
          <a:xfrm>
            <a:off x="533520" y="1600200"/>
            <a:ext cx="8076960" cy="51814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ffrey thought he would hat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uman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c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fess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Kimble reached the Itali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naiss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the beautiful marble nudes g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ffrey’s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enaiss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8" name="TextBox 3"/>
          <p:cNvSpPr/>
          <p:nvPr/>
        </p:nvSpPr>
        <p:spPr>
          <a:xfrm>
            <a:off x="533520" y="1600200"/>
            <a:ext cx="807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ki is a practicing hindu, so she was offen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Sean pulled into a McDonald’s drive-th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order a Big Ma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n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cdonald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g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Box 5"/>
          <p:cNvSpPr/>
          <p:nvPr/>
        </p:nvSpPr>
        <p:spPr>
          <a:xfrm>
            <a:off x="533520" y="1600200"/>
            <a:ext cx="807696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ki is a practic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ind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so she was offen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Sean pulled into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cDonald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rive-thr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order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ig Ma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n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cdonald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g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TextBox 6"/>
          <p:cNvSpPr/>
          <p:nvPr/>
        </p:nvSpPr>
        <p:spPr>
          <a:xfrm>
            <a:off x="533520" y="1600200"/>
            <a:ext cx="807696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ki is a practicing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nd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so she was offen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Sean pulled into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cDonald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rive-thr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order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ig Ma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n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cdonald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g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TextBox 3"/>
          <p:cNvSpPr/>
          <p:nvPr/>
        </p:nvSpPr>
        <p:spPr>
          <a:xfrm>
            <a:off x="2286000" y="295596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TextBox 11"/>
          <p:cNvSpPr/>
          <p:nvPr/>
        </p:nvSpPr>
        <p:spPr>
          <a:xfrm>
            <a:off x="2286000" y="2971800"/>
            <a:ext cx="4572000" cy="10083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3" name="Picture 9" descr="point02.jpg"/>
          <p:cNvPicPr/>
          <p:nvPr/>
        </p:nvPicPr>
        <p:blipFill>
          <a:blip r:embed="rId1"/>
          <a:stretch/>
        </p:blipFill>
        <p:spPr>
          <a:xfrm>
            <a:off x="2819520" y="3889440"/>
            <a:ext cx="2133360" cy="2968560"/>
          </a:xfrm>
          <a:prstGeom prst="rect">
            <a:avLst/>
          </a:prstGeom>
          <a:ln w="0">
            <a:noFill/>
          </a:ln>
        </p:spPr>
      </p:pic>
      <p:sp>
        <p:nvSpPr>
          <p:cNvPr id="1564" name="TextBox 12"/>
          <p:cNvSpPr/>
          <p:nvPr/>
        </p:nvSpPr>
        <p:spPr>
          <a:xfrm>
            <a:off x="2286000" y="2971800"/>
            <a:ext cx="4572000" cy="10083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he </a:t>
            </a:r>
            <a:r>
              <a:rPr b="0" lang="en-US" sz="6000" spc="-1" strike="noStrike" u="sng">
                <a:solidFill>
                  <a:srgbClr val="ffc000"/>
                </a:solidFill>
                <a:uFillTx/>
                <a:latin typeface="Arial Black"/>
              </a:rPr>
              <a:t>E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5" name="Picture 10" descr="point02b.jpg"/>
          <p:cNvPicPr/>
          <p:nvPr/>
        </p:nvPicPr>
        <p:blipFill>
          <a:blip r:embed="rId2"/>
          <a:stretch/>
        </p:blipFill>
        <p:spPr>
          <a:xfrm>
            <a:off x="2743200" y="38862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1566" name="Rounded Rectangular Callout 13"/>
          <p:cNvSpPr/>
          <p:nvPr/>
        </p:nvSpPr>
        <p:spPr>
          <a:xfrm>
            <a:off x="4191120" y="5257800"/>
            <a:ext cx="1676160" cy="838080"/>
          </a:xfrm>
          <a:prstGeom prst="wedgeRoundRectCallout">
            <a:avLst>
              <a:gd name="adj1" fmla="val -113087"/>
              <a:gd name="adj2" fmla="val -15561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Be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0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4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2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25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25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143000" y="1523880"/>
            <a:ext cx="68580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capitalization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3" name="TextBox 3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da wouldn’t offer her little brother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ristmas cookie because he ate all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lloween candy last octo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ct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TextBox 5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da wouldn’t offer her littl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ristma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oki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ecause he ate all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lloween candy las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cto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ct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Box 6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da wouldn’t offer her littl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ristma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oki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ecause he ate all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lloween candy las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Octo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Oct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6" name="Picture 7" descr="copyright.jpg"/>
          <p:cNvPicPr/>
          <p:nvPr/>
        </p:nvPicPr>
        <p:blipFill>
          <a:blip r:embed="rId1"/>
          <a:stretch/>
        </p:blipFill>
        <p:spPr>
          <a:xfrm>
            <a:off x="7319880" y="4038480"/>
            <a:ext cx="1290600" cy="2360880"/>
          </a:xfrm>
          <a:prstGeom prst="rect">
            <a:avLst/>
          </a:prstGeom>
          <a:ln w="0">
            <a:noFill/>
          </a:ln>
        </p:spPr>
      </p:pic>
      <p:sp>
        <p:nvSpPr>
          <p:cNvPr id="1397" name="Rounded Rectangular Callout 8"/>
          <p:cNvSpPr/>
          <p:nvPr/>
        </p:nvSpPr>
        <p:spPr>
          <a:xfrm>
            <a:off x="3886200" y="4419720"/>
            <a:ext cx="2209680" cy="1676160"/>
          </a:xfrm>
          <a:prstGeom prst="wedgeRoundRectCallout">
            <a:avLst>
              <a:gd name="adj1" fmla="val 115120"/>
              <a:gd name="adj2" fmla="val -1775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bro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ook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octo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Rounded Rectangular Callout 9"/>
          <p:cNvSpPr/>
          <p:nvPr/>
        </p:nvSpPr>
        <p:spPr>
          <a:xfrm>
            <a:off x="3886200" y="4419720"/>
            <a:ext cx="2209680" cy="1676160"/>
          </a:xfrm>
          <a:prstGeom prst="wedgeRoundRectCallout">
            <a:avLst>
              <a:gd name="adj1" fmla="val 115120"/>
              <a:gd name="adj2" fmla="val -1775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Octo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eds a capital letter, which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Picture 4" descr="point01.jpg"/>
          <p:cNvPicPr/>
          <p:nvPr/>
        </p:nvPicPr>
        <p:blipFill>
          <a:blip r:embed="rId1"/>
          <a:stretch/>
        </p:blipFill>
        <p:spPr>
          <a:xfrm>
            <a:off x="6894360" y="4038480"/>
            <a:ext cx="1598760" cy="2590920"/>
          </a:xfrm>
          <a:prstGeom prst="rect">
            <a:avLst/>
          </a:prstGeom>
          <a:ln w="0">
            <a:noFill/>
          </a:ln>
        </p:spPr>
      </p:pic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810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pitalize the first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lette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f the first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wor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f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tten pear sat in a puddle of goo on the kitchen cou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Rounded Rectangular Callout 5"/>
          <p:cNvSpPr/>
          <p:nvPr/>
        </p:nvSpPr>
        <p:spPr>
          <a:xfrm>
            <a:off x="914400" y="4343400"/>
            <a:ext cx="3352680" cy="2286000"/>
          </a:xfrm>
          <a:prstGeom prst="wedgeRoundRectCallout">
            <a:avLst>
              <a:gd name="adj1" fmla="val 128148"/>
              <a:gd name="adj2" fmla="val -199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de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form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ing i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ame a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ex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frien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Subtitle 2"/>
          <p:cNvSpPr/>
          <p:nvPr/>
        </p:nvSpPr>
        <p:spPr>
          <a:xfrm>
            <a:off x="1371600" y="2666880"/>
            <a:ext cx="6400800" cy="1219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rotten pear sat in a puddle of goo on the kitchen cou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pitalize the pronoun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4000" spc="-1" strike="noStrike">
                <a:solidFill>
                  <a:srgbClr val="ffc000"/>
                </a:solidFill>
                <a:latin typeface="Garamond"/>
              </a:rPr>
              <a:t>I</a:t>
            </a:r>
            <a:r>
              <a:rPr b="1" i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at liar Darlene claims that she spent the night studying, i will say that i saw her kissing Thomas at the mov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Subtitle 2"/>
          <p:cNvSpPr/>
          <p:nvPr/>
        </p:nvSpPr>
        <p:spPr>
          <a:xfrm>
            <a:off x="1143000" y="1981080"/>
            <a:ext cx="6858000" cy="1752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that liar Darlene claims that she spent the night studying, 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say that 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w her kissing Thomas at the mov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7" name="Picture 4" descr="point03.jpg"/>
          <p:cNvPicPr/>
          <p:nvPr/>
        </p:nvPicPr>
        <p:blipFill>
          <a:blip r:embed="rId1"/>
          <a:stretch/>
        </p:blipFill>
        <p:spPr>
          <a:xfrm>
            <a:off x="1182600" y="3581280"/>
            <a:ext cx="1268640" cy="3276720"/>
          </a:xfrm>
          <a:prstGeom prst="rect">
            <a:avLst/>
          </a:prstGeom>
          <a:ln w="0">
            <a:noFill/>
          </a:ln>
        </p:spPr>
      </p:pic>
      <p:sp>
        <p:nvSpPr>
          <p:cNvPr id="1408" name="Rounded Rectangular Callout 3"/>
          <p:cNvSpPr/>
          <p:nvPr/>
        </p:nvSpPr>
        <p:spPr>
          <a:xfrm>
            <a:off x="5334120" y="4267080"/>
            <a:ext cx="3276360" cy="2057400"/>
          </a:xfrm>
          <a:prstGeom prst="wedgeRoundRectCallout">
            <a:avLst>
              <a:gd name="adj1" fmla="val -144578"/>
              <a:gd name="adj2" fmla="val -4741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n’t b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azy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those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s. You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deser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apital lett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762120" y="453600"/>
            <a:ext cx="7619760" cy="14511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pitaliz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roper noun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0106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uesday, september 18, elizabeth cooked her first pot of squid eyeball ste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Subtitle 2"/>
          <p:cNvSpPr/>
          <p:nvPr/>
        </p:nvSpPr>
        <p:spPr>
          <a:xfrm>
            <a:off x="1066680" y="2209680"/>
            <a:ext cx="7010640" cy="1524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esday,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ptember 18,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zabeth cooked her first pot of squid eyeball ste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2" name="Picture 4" descr="point02.jpg"/>
          <p:cNvPicPr/>
          <p:nvPr/>
        </p:nvPicPr>
        <p:blipFill>
          <a:blip r:embed="rId1"/>
          <a:stretch/>
        </p:blipFill>
        <p:spPr>
          <a:xfrm>
            <a:off x="6324480" y="3387600"/>
            <a:ext cx="2438640" cy="3394080"/>
          </a:xfrm>
          <a:prstGeom prst="rect">
            <a:avLst/>
          </a:prstGeom>
          <a:ln w="0">
            <a:noFill/>
          </a:ln>
        </p:spPr>
      </p:pic>
      <p:sp>
        <p:nvSpPr>
          <p:cNvPr id="1413" name="Rounded Rectangular Callout 3"/>
          <p:cNvSpPr/>
          <p:nvPr/>
        </p:nvSpPr>
        <p:spPr>
          <a:xfrm>
            <a:off x="1066680" y="4114800"/>
            <a:ext cx="3733920" cy="2362320"/>
          </a:xfrm>
          <a:prstGeom prst="wedgeRoundRectCallout">
            <a:avLst>
              <a:gd name="adj1" fmla="val 141231"/>
              <a:gd name="adj2" fmla="val -5732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 nouns include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we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mon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e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n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4" descr="point02.jpg"/>
          <p:cNvPicPr/>
          <p:nvPr/>
        </p:nvPicPr>
        <p:blipFill>
          <a:blip r:embed="rId1"/>
          <a:stretch/>
        </p:blipFill>
        <p:spPr>
          <a:xfrm>
            <a:off x="3132000" y="3429000"/>
            <a:ext cx="2354400" cy="327672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Other Proper Noun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457200" y="1722240"/>
            <a:ext cx="2743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Pl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5943240" y="1722600"/>
            <a:ext cx="2895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i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ar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s of the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s of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8" name="Picture 5" descr="point02b.jpg"/>
          <p:cNvPicPr/>
          <p:nvPr/>
        </p:nvPicPr>
        <p:blipFill>
          <a:blip r:embed="rId2"/>
          <a:stretch/>
        </p:blipFill>
        <p:spPr>
          <a:xfrm>
            <a:off x="3124080" y="3368520"/>
            <a:ext cx="239724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.</dc:description>
  <cp:keywords>capitalization Grammar Bytes! Robin L. Simmons</cp:keywords>
  <dc:language>en-US</dc:language>
  <cp:lastModifiedBy>Nadia Williams</cp:lastModifiedBy>
  <dcterms:modified xsi:type="dcterms:W3CDTF">2014-02-27T15:20:07Z</dcterms:modified>
  <cp:revision>136</cp:revision>
  <dc:subject/>
  <dc:title>Capita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